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288588" cy="7239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3933-9CE4-487C-AB3C-196380983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92595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40" y="3886560"/>
            <a:ext cx="92595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4E16-25E3-4E10-8E43-5F4EEB7F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440" y="388656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59240" y="388656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6510-15B1-4408-90DC-6597DA299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5000" y="169380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75560" y="169380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4440" y="388656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5000" y="388656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75560" y="388656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0BD2-5C91-4671-AF3E-032CDF70F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4440" y="1693800"/>
            <a:ext cx="92595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5D67-BA0D-4219-B9AF-B55C63FF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92595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CA36-BB06-44EA-82BC-DD1496CF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F90C-2BBF-4578-8379-07B52909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2BE2-42E4-4650-949F-BD51CBC7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14440" y="288720"/>
            <a:ext cx="9259560" cy="56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ABDA-4F90-4D39-AD5F-086A728D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440" y="388656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5CE8-BC55-4189-B4F5-D2811394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59240" y="388656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9353-C1B9-4BA3-BB11-40B2FB11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3886560"/>
            <a:ext cx="92595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DA5A-E8C2-4120-8CE3-F30C3F0A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71120" y="6595560"/>
            <a:ext cx="214308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514320" y="6595560"/>
            <a:ext cx="325764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372080" y="6595560"/>
            <a:ext cx="214308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 algn="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fld id="{A8A3DB70-8A87-4C8A-A257-23C20C6EC500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744280" y="6961320"/>
            <a:ext cx="231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916480" y="6961320"/>
            <a:ext cx="231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iS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14300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966480" y="3048120"/>
            <a:ext cx="239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gust 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10800" y="2008080"/>
            <a:ext cx="67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SiS VGA Product Roadma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228600" y="0"/>
            <a:ext cx="10515600" cy="7238880"/>
          </a:xfrm>
          <a:prstGeom prst="rect">
            <a:avLst/>
          </a:prstGeom>
          <a:gradFill rotWithShape="0">
            <a:gsLst>
              <a:gs pos="0">
                <a:srgbClr val="b1fee4"/>
              </a:gs>
              <a:gs pos="50000">
                <a:srgbClr val="66ffcc"/>
              </a:gs>
              <a:gs pos="100000">
                <a:srgbClr val="b1fee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SiS315 Present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TW" sz="2400" spc="-1" strike="noStrike">
                <a:solidFill>
                  <a:srgbClr val="a50021"/>
                </a:solidFill>
                <a:latin typeface="Arial"/>
              </a:rPr>
              <a:t>Lightning Speed, Beyond Fantasy</a:t>
            </a:r>
            <a:r>
              <a:rPr b="1" lang="zh-TW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43880" y="6858000"/>
            <a:ext cx="23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147200" y="357120"/>
            <a:ext cx="157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5440" y="1828800"/>
            <a:ext cx="469764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SiS315 Positioning /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GPU Block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eature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Performance Compar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355920" y="365040"/>
            <a:ext cx="3609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SiS315 Position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26920" y="1523880"/>
            <a:ext cx="8003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Mainstream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SiS315 =&gt; 128 bit SDR/ 64-bit SD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Focus on 32M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Best Cost / Perform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Support Cost-Effective Memory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895840" y="289080"/>
            <a:ext cx="439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SiS315 Market Strateg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65360" y="1752480"/>
            <a:ext cx="6188400" cy="23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The Best Choise for Sub-U$90 3D VGA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 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The  Perfect Choise with 3DV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 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The Best 3D Performance you Can G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 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The Richest Multimedia Function You Can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 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The Flexible Display Option You Can Select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	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52480" y="355680"/>
            <a:ext cx="70009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zh-TW" sz="3000" spc="-1" strike="noStrike">
                <a:solidFill>
                  <a:srgbClr val="990000"/>
                </a:solidFill>
                <a:latin typeface="Arial"/>
              </a:rPr>
              <a:t>SiS315  Block Diagra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71720" y="2090880"/>
            <a:ext cx="1628640" cy="4424400"/>
            <a:chOff x="171720" y="2090880"/>
            <a:chExt cx="1628640" cy="4424400"/>
          </a:xfrm>
        </p:grpSpPr>
        <p:sp>
          <p:nvSpPr>
            <p:cNvPr id="54" name=""/>
            <p:cNvSpPr/>
            <p:nvPr/>
          </p:nvSpPr>
          <p:spPr>
            <a:xfrm>
              <a:off x="685800" y="4262400"/>
              <a:ext cx="1114560" cy="241200"/>
            </a:xfrm>
            <a:prstGeom prst="leftRightArrow">
              <a:avLst>
                <a:gd name="adj1" fmla="val 50000"/>
                <a:gd name="adj2" fmla="val 9199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171720" y="2090880"/>
              <a:ext cx="1591920" cy="4424400"/>
              <a:chOff x="171720" y="2090880"/>
              <a:chExt cx="1591920" cy="4424400"/>
            </a:xfrm>
          </p:grpSpPr>
          <p:sp>
            <p:nvSpPr>
              <p:cNvPr id="56" name=""/>
              <p:cNvSpPr/>
              <p:nvPr/>
            </p:nvSpPr>
            <p:spPr>
              <a:xfrm>
                <a:off x="514440" y="2413080"/>
                <a:ext cx="147600" cy="41022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f3f3f3"/>
                  </a:gs>
                  <a:gs pos="100000">
                    <a:srgbClr val="b2b2b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720" y="2090880"/>
                <a:ext cx="100548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AGP2X/4X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58600" y="3860640"/>
                <a:ext cx="905040" cy="49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Address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5943600" y="1436760"/>
            <a:ext cx="3571920" cy="1387440"/>
            <a:chOff x="5943600" y="1436760"/>
            <a:chExt cx="3571920" cy="1387440"/>
          </a:xfrm>
        </p:grpSpPr>
        <p:grpSp>
          <p:nvGrpSpPr>
            <p:cNvPr id="60" name=""/>
            <p:cNvGrpSpPr/>
            <p:nvPr/>
          </p:nvGrpSpPr>
          <p:grpSpPr>
            <a:xfrm>
              <a:off x="8227080" y="1436760"/>
              <a:ext cx="1288440" cy="1386000"/>
              <a:chOff x="8227080" y="1436760"/>
              <a:chExt cx="1288440" cy="1386000"/>
            </a:xfrm>
          </p:grpSpPr>
          <p:pic>
            <p:nvPicPr>
              <p:cNvPr id="61" name="Monitor_front" descr=""/>
              <p:cNvPicPr/>
              <p:nvPr/>
            </p:nvPicPr>
            <p:blipFill>
              <a:blip r:embed="rId1"/>
              <a:stretch/>
            </p:blipFill>
            <p:spPr>
              <a:xfrm>
                <a:off x="8315280" y="1436760"/>
                <a:ext cx="1200240" cy="104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8227080" y="2494080"/>
                <a:ext cx="128304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zh-TW" sz="1500" spc="-1" strike="noStrike">
                    <a:solidFill>
                      <a:srgbClr val="000000"/>
                    </a:solidFill>
                    <a:latin typeface="Arial"/>
                  </a:rPr>
                  <a:t>1’st Monitor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943600" y="2010960"/>
              <a:ext cx="2441520" cy="813240"/>
              <a:chOff x="5943600" y="2010960"/>
              <a:chExt cx="2441520" cy="813240"/>
            </a:xfrm>
          </p:grpSpPr>
          <p:sp>
            <p:nvSpPr>
              <p:cNvPr id="64" name=""/>
              <p:cNvSpPr/>
              <p:nvPr/>
            </p:nvSpPr>
            <p:spPr>
              <a:xfrm>
                <a:off x="5943600" y="2819520"/>
                <a:ext cx="178128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7715160" y="2010960"/>
                <a:ext cx="1800" cy="80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715160" y="2011320"/>
                <a:ext cx="66996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" name=""/>
          <p:cNvGrpSpPr/>
          <p:nvPr/>
        </p:nvGrpSpPr>
        <p:grpSpPr>
          <a:xfrm>
            <a:off x="6174720" y="3581280"/>
            <a:ext cx="1261440" cy="1044360"/>
            <a:chOff x="6174720" y="3581280"/>
            <a:chExt cx="1261440" cy="1044360"/>
          </a:xfrm>
        </p:grpSpPr>
        <p:sp>
          <p:nvSpPr>
            <p:cNvPr id="68" name=""/>
            <p:cNvSpPr/>
            <p:nvPr/>
          </p:nvSpPr>
          <p:spPr>
            <a:xfrm>
              <a:off x="6174720" y="4327200"/>
              <a:ext cx="126144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00 Pin TQF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43560" y="3581280"/>
              <a:ext cx="743040" cy="723960"/>
            </a:xfrm>
            <a:prstGeom prst="rect">
              <a:avLst/>
            </a:prstGeom>
            <a:gradFill rotWithShape="0">
              <a:gsLst>
                <a:gs pos="0">
                  <a:srgbClr val="fed5ac"/>
                </a:gs>
                <a:gs pos="50000">
                  <a:srgbClr val="ff9933"/>
                </a:gs>
                <a:gs pos="100000">
                  <a:srgbClr val="fed5a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iS30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7238880" y="2971800"/>
            <a:ext cx="2419560" cy="3900600"/>
            <a:chOff x="7238880" y="2971800"/>
            <a:chExt cx="2419560" cy="3900600"/>
          </a:xfrm>
        </p:grpSpPr>
        <p:sp>
          <p:nvSpPr>
            <p:cNvPr id="71" name=""/>
            <p:cNvSpPr/>
            <p:nvPr/>
          </p:nvSpPr>
          <p:spPr>
            <a:xfrm>
              <a:off x="7800840" y="3733920"/>
              <a:ext cx="1800" cy="251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314920" y="5337000"/>
              <a:ext cx="134244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CD Monit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" name="lcd" descr=""/>
            <p:cNvPicPr/>
            <p:nvPr/>
          </p:nvPicPr>
          <p:blipFill>
            <a:blip r:embed="rId2">
              <a:lum contrast="-24000"/>
            </a:blip>
            <a:stretch/>
          </p:blipFill>
          <p:spPr>
            <a:xfrm>
              <a:off x="8372520" y="4343400"/>
              <a:ext cx="1285920" cy="9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 flipV="1">
              <a:off x="7772400" y="4862520"/>
              <a:ext cx="7621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800840" y="5710320"/>
              <a:ext cx="1629000" cy="1162080"/>
              <a:chOff x="7800840" y="5710320"/>
              <a:chExt cx="1629000" cy="1162080"/>
            </a:xfrm>
          </p:grpSpPr>
          <p:pic>
            <p:nvPicPr>
              <p:cNvPr id="7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486640" y="5710320"/>
                <a:ext cx="94320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"/>
              <p:cNvSpPr/>
              <p:nvPr/>
            </p:nvSpPr>
            <p:spPr>
              <a:xfrm>
                <a:off x="8744040" y="6543720"/>
                <a:ext cx="44316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TV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7800840" y="6246360"/>
                <a:ext cx="59544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9" name="Monitor_front" descr=""/>
            <p:cNvPicPr/>
            <p:nvPr/>
          </p:nvPicPr>
          <p:blipFill>
            <a:blip r:embed="rId4"/>
            <a:stretch/>
          </p:blipFill>
          <p:spPr>
            <a:xfrm>
              <a:off x="8238960" y="2971800"/>
              <a:ext cx="128592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7238880" y="3738600"/>
              <a:ext cx="120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151120" y="4049640"/>
              <a:ext cx="139716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zh-TW" sz="1500" spc="-1" strike="noStrike">
                  <a:solidFill>
                    <a:srgbClr val="000000"/>
                  </a:solidFill>
                  <a:latin typeface="Arial"/>
                </a:rPr>
                <a:t>2’nd  Monit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752480" y="1295280"/>
            <a:ext cx="4647960" cy="5564880"/>
            <a:chOff x="1752480" y="1295280"/>
            <a:chExt cx="4647960" cy="5564880"/>
          </a:xfrm>
        </p:grpSpPr>
        <p:sp>
          <p:nvSpPr>
            <p:cNvPr id="83" name=""/>
            <p:cNvSpPr/>
            <p:nvPr/>
          </p:nvSpPr>
          <p:spPr>
            <a:xfrm>
              <a:off x="5762520" y="3855960"/>
              <a:ext cx="519120" cy="161640"/>
            </a:xfrm>
            <a:prstGeom prst="rightArrow">
              <a:avLst>
                <a:gd name="adj1" fmla="val 50000"/>
                <a:gd name="adj2" fmla="val 8029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752480" y="2361960"/>
              <a:ext cx="4029120" cy="41022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07932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657240" y="1981080"/>
              <a:ext cx="160560" cy="7920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38480" y="1828440"/>
              <a:ext cx="2361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zh-TW" sz="1100" spc="-1" strike="noStrike">
                  <a:solidFill>
                    <a:srgbClr val="800000"/>
                  </a:solidFill>
                  <a:latin typeface="Arial"/>
                </a:rPr>
                <a:t>64/128 SD/SGRAM Interfa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zh-TW" sz="1100" spc="-1" strike="noStrike">
                  <a:solidFill>
                    <a:srgbClr val="800000"/>
                  </a:solidFill>
                  <a:latin typeface="Arial"/>
                </a:rPr>
                <a:t>64/128 DDR Interface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14440" y="1295280"/>
              <a:ext cx="838440" cy="380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267080" y="1447560"/>
              <a:ext cx="838080" cy="380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33560" y="23619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3733560" y="15994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33560" y="15998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57040" y="259056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Transform &amp; Ligh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57040" y="327636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w Gen. 256 Bit 3D Eng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040" y="556236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3D VR insi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57040" y="396216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isibility Eng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57040" y="480024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yper FSA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78520" y="6400440"/>
              <a:ext cx="111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Arial"/>
                </a:rPr>
                <a:t>529 BGA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0" y="990720"/>
            <a:ext cx="7620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572000"/>
            <a:ext cx="7620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62320" y="152280"/>
            <a:ext cx="5348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57520" y="6575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5080" y="9334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99864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160200"/>
            <a:ext cx="5348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243920" y="6583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0400" y="9414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6560" y="1371600"/>
            <a:ext cx="6001920" cy="43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256-bit Graphics Architectur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Transform And Lighting 3D Engi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DirectX 7.x/OpenGL ICD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SDRAM/SGRAM /DDR DRAM Interfa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166MHz Memory Cloc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Integrated 3D VR Eyeglass Circui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Motion compens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Maximum 128 MB Local Frame Buff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375 MHz RAMDA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0.15um CMOS Technology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529 balls BGA packag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Utilized With SiS301 To Support Dual Display 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buClr>
                <a:srgbClr val="a5002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zh-TW" sz="1400" spc="-1" strike="noStrike">
                <a:solidFill>
                  <a:srgbClr val="003366"/>
                </a:solidFill>
                <a:latin typeface="Arial"/>
                <a:ea typeface="新細明體"/>
              </a:rPr>
              <a:t>VGA + 2nd V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95000"/>
              </a:lnSpc>
              <a:buClr>
                <a:srgbClr val="a5002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zh-TW" sz="1400" spc="-1" strike="noStrike">
                <a:solidFill>
                  <a:srgbClr val="003366"/>
                </a:solidFill>
                <a:latin typeface="Arial"/>
                <a:ea typeface="新細明體"/>
              </a:rPr>
              <a:t>VGA + TV (NTSC / P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95000"/>
              </a:lnSpc>
              <a:buClr>
                <a:srgbClr val="a5002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zh-TW" sz="1400" spc="-1" strike="noStrike">
                <a:solidFill>
                  <a:srgbClr val="003366"/>
                </a:solidFill>
                <a:latin typeface="Arial"/>
                <a:ea typeface="新細明體"/>
              </a:rPr>
              <a:t>VGA + LCD Monitor (TMDS),Up To </a:t>
            </a:r>
            <a:r>
              <a:rPr b="1" lang="zh-TW" sz="1500" spc="-1" strike="noStrike">
                <a:solidFill>
                  <a:srgbClr val="000066"/>
                </a:solidFill>
                <a:latin typeface="Arial"/>
                <a:ea typeface="新細明體"/>
              </a:rPr>
              <a:t>1280x102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00680" y="360360"/>
            <a:ext cx="23616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Key Feat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0" y="990720"/>
            <a:ext cx="7620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4572000"/>
            <a:ext cx="7620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62320" y="152280"/>
            <a:ext cx="5348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157520" y="6575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5080" y="9334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1600200"/>
            <a:ext cx="661032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econdary CRT_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Independent Resolution,Color Depth &amp; Frame Ra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Secondary DDC interfa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135 MHz 2’nd RAMDAC Up To  1280x1024@85H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LCD Monitor_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Integrated TMDS Transmitt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DVI Compliant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Support 18” LCD  Up To 1280 * 1024 Resolu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Hot Plugging Function Defined By VESA P&amp;D 1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TSC/PAL TV_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Programmable 6 Line Buffers Anti Flickering Filt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Macro Vision Ver. 7.1.L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8160" y="357120"/>
            <a:ext cx="4181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SiS301 for SiS31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525560" y="6543720"/>
            <a:ext cx="533412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149800" y="5791320"/>
            <a:ext cx="22464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 u="sng">
                <a:solidFill>
                  <a:srgbClr val="000066"/>
                </a:solidFill>
                <a:uFillTx/>
                <a:latin typeface="Arial"/>
              </a:rPr>
              <a:t>Test Environment: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GIGABYTE  (Intel 815)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SzPct val="7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Pentium !!! 1GHz MHz,128M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SzPct val="7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Windows 98S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61280" y="5791320"/>
            <a:ext cx="29350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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SiS315 /32M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ECLK/MCLK=166/166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Driver version:v2.01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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MX200 /32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ECLK/MCLK=175/166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Driver version: v0650</a:t>
            </a: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(get from offical web-si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18600" y="1219320"/>
            <a:ext cx="27176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3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3DMARK 2001 V1.1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(1024 x 768 x 32bpp  @ 85Hz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181480" y="1828800"/>
          <a:ext cx="4876920" cy="39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828800"/>
                    <a:ext cx="487692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352680" y="380880"/>
            <a:ext cx="449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Performance Lead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08160" y="1219320"/>
            <a:ext cx="27176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3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3D MARK2000 pro V1.1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(1024 x 768 x 32bpp  @ 85H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828800"/>
          <a:ext cx="5029200" cy="397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828800"/>
                    <a:ext cx="5029200" cy="39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940280" y="5791320"/>
            <a:ext cx="2613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 u="sng">
                <a:solidFill>
                  <a:srgbClr val="000066"/>
                </a:solidFill>
                <a:uFillTx/>
                <a:latin typeface="Arial"/>
              </a:rPr>
              <a:t>Test Environment: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SzPct val="9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GIGABYTE GA-60XM7E (Intel 815)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SzPct val="9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Pentium !!! 1G MHz,128M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SzPct val="9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Windows 98S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380880"/>
            <a:ext cx="8774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Gaming Benchmar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0200" y="5962680"/>
            <a:ext cx="2008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28600" y="1990800"/>
          <a:ext cx="5181480" cy="40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90800"/>
                    <a:ext cx="5181480" cy="40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612000" y="144792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a50021"/>
                </a:solidFill>
                <a:latin typeface="Arial"/>
              </a:rPr>
              <a:t>Direct 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7000" y="167652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Unreal Tournament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(1024X768X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86760" y="144792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a50021"/>
                </a:solidFill>
                <a:latin typeface="Arial"/>
              </a:rPr>
              <a:t>Open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257800" y="1905120"/>
          <a:ext cx="5029200" cy="411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1905120"/>
                    <a:ext cx="502920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361280" y="5791320"/>
            <a:ext cx="29350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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SiS315 /32M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ECLK/MCLK=166/166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Driver version:v2.01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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MX200 /32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ECLK/MCLK=175/166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Driver version: v0650</a:t>
            </a: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(get from offical web-si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68960" y="1752480"/>
            <a:ext cx="188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MDK2 </a:t>
            </a: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(1024X768X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1T12:24:21Z</dcterms:created>
  <dc:creator>vivian</dc:creator>
  <dc:description/>
  <dc:language>en-US</dc:language>
  <cp:lastModifiedBy>vivian</cp:lastModifiedBy>
  <cp:lastPrinted>2001-03-19T06:51:53Z</cp:lastPrinted>
  <dcterms:modified xsi:type="dcterms:W3CDTF">2001-06-15T03:59:05Z</dcterms:modified>
  <cp:revision>36</cp:revision>
  <dc:subject/>
  <dc:title>無投影片標題</dc:title>
</cp:coreProperties>
</file>